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wmf" ContentType="image/x-wmf"/>
  <Override PartName="/ppt/media/image8.png" ContentType="image/pn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759-CB80-4C94-A7EE-C4E3DD96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531-3DF8-4EC7-AF15-0FB63966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AEE-6782-4374-B089-AED7B684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28A6-4191-464F-B3C0-4A1A8BD7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4FA-EB26-445C-B382-74A3FB78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ECD-4E0F-44F9-8D84-57B91B5B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B59C-92D5-431A-AA70-0FCDA125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A4C-AD11-4F5F-978C-07B681C8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BCE-23D5-4525-9148-40A0324D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C57-AA95-4EC7-A78C-0991DE3D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BAD-95E8-4A58-9FCD-0A4CE360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A9A-73FE-4346-8376-CE49365F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607C-0196-4C99-AE44-32B1C8002287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00C4-41DC-4A64-888D-9CE91ADADE4A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"/>
          <p:cNvGrpSpPr/>
          <p:nvPr/>
        </p:nvGrpSpPr>
        <p:grpSpPr>
          <a:xfrm>
            <a:off x="3166920" y="333360"/>
            <a:ext cx="5688000" cy="2665080"/>
            <a:chOff x="3166920" y="333360"/>
            <a:chExt cx="5688000" cy="2665080"/>
          </a:xfrm>
        </p:grpSpPr>
        <p:pic>
          <p:nvPicPr>
            <p:cNvPr id="42" name="Picture 4" descr="图片1dgyjstyj"/>
            <p:cNvPicPr/>
            <p:nvPr/>
          </p:nvPicPr>
          <p:blipFill>
            <a:blip r:embed="rId1"/>
            <a:stretch/>
          </p:blipFill>
          <p:spPr>
            <a:xfrm>
              <a:off x="3166920" y="333360"/>
              <a:ext cx="5688000" cy="26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5"/>
            <p:cNvSpPr/>
            <p:nvPr/>
          </p:nvSpPr>
          <p:spPr>
            <a:xfrm>
              <a:off x="4326480" y="2173320"/>
              <a:ext cx="315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99"/>
                  </a:solidFill>
                  <a:latin typeface="Arial"/>
                </a:rPr>
                <a:t>Lesson 2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Text Box 6"/>
          <p:cNvSpPr/>
          <p:nvPr/>
        </p:nvSpPr>
        <p:spPr>
          <a:xfrm>
            <a:off x="3311640" y="3789360"/>
            <a:ext cx="56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A Computer Help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2338560" y="2209680"/>
            <a:ext cx="601956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nguage Points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770040" y="71280"/>
            <a:ext cx="858816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Do you ofte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arch for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information 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the Internet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经常在网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搜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信息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arch f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寻找；搜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ca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arch f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find reviews onli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也可以在网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搜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查找相关评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must examine how users ma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your p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必须研究用户可能怎样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搜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的页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731880" y="142920"/>
            <a:ext cx="891216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I entered som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key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words into a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ngine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to find information on this top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输入一些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关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字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搜索引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找到关于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话题的信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key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键；关键；钥匙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put th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ke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n the door and enter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用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钥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开了门然后进去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ke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o success is to be ready from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r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功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关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从一开始就做好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588960" y="-71280"/>
            <a:ext cx="8912160" cy="68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ke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重要的；关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is one of ou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key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nkers on the fu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humanity in the cosm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在人类的宇宙前景上这个问题上，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重要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思考者之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ke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rends you could sh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th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关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趋势上您有什么想法可以分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arch engine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搜索引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 you want 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arch engin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o see eve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ge on your websi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是否希望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搜索引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能看到你网站上的每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页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660240" y="-71280"/>
            <a:ext cx="8912520" cy="54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Easter does no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ll on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the same day ea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year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年复活节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同一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ll 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落到；指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t it is lucky that the jug did no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ll 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d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幸亏罐子没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砸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头上，这真是不幸中的万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 well known that the rain-drops on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of are smaller than those tha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ll 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e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如我们所知道的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落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屋顶的雨滴比落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街上的雨滴要小一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946080" y="0"/>
            <a:ext cx="8912160" cy="62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The dat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pends on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the moon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期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取决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pend 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取决于；依赖；依靠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pend 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y pen for a liv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写作为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shouldn’t listen to the rumour. You c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pend 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不应该听信流言蜚语，你可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信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pends 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wea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切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取决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660240" y="0"/>
            <a:ext cx="891252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this way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, it is like the Chinese Sp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Festiv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通过这种方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像中国的春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this way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这样；用这种方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this wa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an we improve oursel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用这种方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才能不断提高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this wa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you can quit smo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通过这种方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你可以戒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165"/>
          <p:cNvPicPr/>
          <p:nvPr/>
        </p:nvPicPr>
        <p:blipFill>
          <a:blip r:embed="rId1"/>
          <a:stretch/>
        </p:blipFill>
        <p:spPr>
          <a:xfrm>
            <a:off x="1187280" y="476280"/>
            <a:ext cx="857520" cy="85716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4"/>
          <p:cNvGrpSpPr/>
          <p:nvPr/>
        </p:nvGrpSpPr>
        <p:grpSpPr>
          <a:xfrm>
            <a:off x="2268360" y="404640"/>
            <a:ext cx="4668840" cy="1022400"/>
            <a:chOff x="2268360" y="404640"/>
            <a:chExt cx="4668840" cy="1022400"/>
          </a:xfrm>
        </p:grpSpPr>
        <p:pic>
          <p:nvPicPr>
            <p:cNvPr id="76" name="Picture 5" descr="frame4"/>
            <p:cNvPicPr/>
            <p:nvPr/>
          </p:nvPicPr>
          <p:blipFill>
            <a:blip r:embed="rId2"/>
            <a:stretch/>
          </p:blipFill>
          <p:spPr>
            <a:xfrm>
              <a:off x="2268360" y="404640"/>
              <a:ext cx="466884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WordArt 6"/>
            <p:cNvSpPr txBox="1"/>
            <p:nvPr/>
          </p:nvSpPr>
          <p:spPr>
            <a:xfrm>
              <a:off x="2617560" y="668160"/>
              <a:ext cx="4103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ffff"/>
                    </a:solidFill>
                    <a:round/>
                  </a:ln>
                  <a:solidFill>
                    <a:srgbClr val="ffff99"/>
                  </a:solidFill>
                  <a:latin typeface="Arial"/>
                </a:rPr>
                <a:t>Time for Reflection </a:t>
              </a:r>
              <a:endParaRPr b="1" lang="en-US" sz="1800" spc="1" strike="noStrike">
                <a:ln w="9360">
                  <a:solidFill>
                    <a:srgbClr val="00ffff"/>
                  </a:solidFill>
                  <a:round/>
                </a:ln>
                <a:solidFill>
                  <a:srgbClr val="ffff99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8" name="Rectangle 7"/>
          <p:cNvSpPr/>
          <p:nvPr/>
        </p:nvSpPr>
        <p:spPr>
          <a:xfrm>
            <a:off x="-252360" y="1989000"/>
            <a:ext cx="39625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arch engine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epend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aster Bunny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all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n this way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arch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464000" y="1989000"/>
            <a:ext cx="468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搜素引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取决于；依赖；依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活节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落在；指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这种方式；这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搜索；寻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图片1657567"/>
          <p:cNvPicPr/>
          <p:nvPr/>
        </p:nvPicPr>
        <p:blipFill>
          <a:blip r:embed="rId1"/>
          <a:stretch/>
        </p:blipFill>
        <p:spPr>
          <a:xfrm>
            <a:off x="826920" y="549360"/>
            <a:ext cx="4106880" cy="5046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谢谢"/>
          <p:cNvPicPr/>
          <p:nvPr/>
        </p:nvPicPr>
        <p:blipFill>
          <a:blip r:embed="rId2"/>
          <a:stretch/>
        </p:blipFill>
        <p:spPr>
          <a:xfrm>
            <a:off x="6659640" y="3860640"/>
            <a:ext cx="127944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5435640" y="2708280"/>
            <a:ext cx="3240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：另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档，点此链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696960" y="285840"/>
            <a:ext cx="866124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ill in the blanks with correct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used to work at her _______ until four in the morn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以前经常在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笔记本电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工作到凌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点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You are the _____to your own happiness, so go ahead, unlock it once and for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自己便是自己的快乐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钥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因此，往前走，马上打开那把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973840" y="1000080"/>
            <a:ext cx="14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ap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668760" y="359244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08061123"/>
          <p:cNvPicPr/>
          <p:nvPr/>
        </p:nvPicPr>
        <p:blipFill>
          <a:blip r:embed="rId1"/>
          <a:stretch/>
        </p:blipFill>
        <p:spPr>
          <a:xfrm>
            <a:off x="1835280" y="0"/>
            <a:ext cx="5832360" cy="1197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2627280" y="333360"/>
            <a:ext cx="446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Words &amp;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68360" y="1341360"/>
            <a:ext cx="253980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lap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Times New Roman"/>
              </a:rPr>
              <a:t>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Times New Roman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Times New Roman"/>
              </a:rPr>
              <a:t>dep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Times New Roman"/>
              </a:rPr>
              <a:t>bu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Times New Roman"/>
              </a:rPr>
              <a:t>h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4211640" y="1341360"/>
            <a:ext cx="468000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笔记本电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复活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输入；进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键；钥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搜索；查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话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依靠；取决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隐藏；躲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770040" y="357120"/>
            <a:ext cx="85168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at do they know about your 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于你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主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了解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Each day of the _________brings its own mea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节日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每一天都有不同的含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The burden would then ____ ____ the Europea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么，负担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落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欧洲人的头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7558200" y="42372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605480" y="17924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est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045120" y="36640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ll   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58800" y="285840"/>
            <a:ext cx="898524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All of our economies _______ ____ o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所有的经济都得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石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Don't keep getting onto the boy ___ ____ ____, it will not do any g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老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训斥孩子，这不会有什么好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She pulled a face to ______ her embarrass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做了一个鬼脸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掩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的窘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359320" y="3524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pend  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377120" y="17859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  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31880" y="25002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288040" y="3881520"/>
            <a:ext cx="112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homework啊"/>
          <p:cNvPicPr/>
          <p:nvPr/>
        </p:nvPicPr>
        <p:blipFill>
          <a:blip r:embed="rId1"/>
          <a:stretch/>
        </p:blipFill>
        <p:spPr>
          <a:xfrm>
            <a:off x="900000" y="333360"/>
            <a:ext cx="1828800" cy="16956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3419640" y="119700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258920" y="2492280"/>
            <a:ext cx="686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Search for some information about an important festival in China and make a mind map for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3"/>
          <p:cNvSpPr txBox="1"/>
          <p:nvPr/>
        </p:nvSpPr>
        <p:spPr>
          <a:xfrm>
            <a:off x="3024360" y="62064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 Black"/>
              </a:rPr>
              <a:t>Preview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63640" y="2317680"/>
            <a:ext cx="8280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 the words and expressions in Lesson 2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Underline the sentences you don’t understand on page 5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2170080" y="428760"/>
            <a:ext cx="50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origin of E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复活节的由来[00_00_54][20140212-142312-1]"/>
          <p:cNvPicPr/>
          <p:nvPr/>
        </p:nvPicPr>
        <p:blipFill>
          <a:blip r:embed="rId1"/>
          <a:stretch/>
        </p:blipFill>
        <p:spPr>
          <a:xfrm>
            <a:off x="1809720" y="1797120"/>
            <a:ext cx="604836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871560" y="287280"/>
            <a:ext cx="345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ink about it!</a:t>
            </a:r>
            <a:endParaRPr b="1" lang="en-US" sz="1800" spc="1" strike="noStrike">
              <a:ln w="12600">
                <a:solidFill>
                  <a:srgbClr val="ff66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Picture 4" descr="图片2"/>
          <p:cNvPicPr/>
          <p:nvPr/>
        </p:nvPicPr>
        <p:blipFill>
          <a:blip r:embed="rId1"/>
          <a:stretch/>
        </p:blipFill>
        <p:spPr>
          <a:xfrm>
            <a:off x="5119560" y="142920"/>
            <a:ext cx="1150920" cy="1071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447920" y="1727280"/>
            <a:ext cx="6767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 you know about Ea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you often search for information on the Internet? 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987640" y="765000"/>
            <a:ext cx="2808360" cy="642600"/>
          </a:xfrm>
          <a:prstGeom prst="rect">
            <a:avLst/>
          </a:prstGeom>
          <a:solidFill>
            <a:srgbClr val="00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air%20reading"/>
          <p:cNvPicPr/>
          <p:nvPr/>
        </p:nvPicPr>
        <p:blipFill>
          <a:blip r:embed="rId1"/>
          <a:stretch/>
        </p:blipFill>
        <p:spPr>
          <a:xfrm>
            <a:off x="6732720" y="333360"/>
            <a:ext cx="1584360" cy="10875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879480" y="2209680"/>
            <a:ext cx="786924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understand the passage about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s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o learn some useful words and expressions to introduce a festiv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755640" y="260280"/>
            <a:ext cx="70563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ords: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enter             key            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topic           depend         h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26920" y="2637000"/>
            <a:ext cx="7632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press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arch engine               depend 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aster Bunny               fall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n this way                    search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750960" y="0"/>
            <a:ext cx="42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ead and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00040" y="7239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How did the girl search for information on the Intern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e entered some key words into a search engine to find information on the top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What did Ms. Liu ask her students to writ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o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e asked her students to write a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bout Eas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Is Easter an important festival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inese cul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, it isn’t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714240" y="285840"/>
            <a:ext cx="914400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When is Eas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 is always in March or April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What do children do on Easter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dren have egg hunts and eat chocol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abbi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What are symbols of Eas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abbits and eg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428760" y="-71280"/>
            <a:ext cx="9144000" cy="70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ead the lesson and fill in the bl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ster is an important ________. It does not fall on the same day each year. Children believe that the Easter Bunny comes and ______ chocolate eggs for them to find. Rabbits and eggs are both _______ of new life. That means Easter is a way to welcome spring. Most people ________ E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th their family and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288040" y="836640"/>
            <a:ext cx="18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est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896760" y="314172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937120" y="38624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713120" y="5445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eleb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0:57:04Z</dcterms:created>
  <dc:creator>PCoS</dc:creator>
  <dc:description/>
  <dc:language>en-US</dc:language>
  <cp:lastModifiedBy>Administrator</cp:lastModifiedBy>
  <dcterms:modified xsi:type="dcterms:W3CDTF">2019-01-02T02:26:38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